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136-9278-4C9F-9CAF-F293F445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CE3-194C-4289-B401-EC69189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889-4946-4B6D-A025-9F1B55A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2C7-68DF-4A56-83BC-E5CA0CD5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DFD-1F98-4B8A-AA1B-F9F0843B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AF4-1ECC-43A1-82BD-043AE78D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041-0B79-417C-ACB3-937F7563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781-046D-452C-A180-9AF0B71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7AD-C86C-4E88-99A8-3EA4089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82A-4AED-42CB-914E-B1A620E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A20-55F9-46D2-AC2A-1E1E8F2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B00-8B1B-4EB4-A3A3-BDE52A42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2729-DD68-4621-95D7-492C18989E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229600" cy="1390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84360" y="1557360"/>
            <a:ext cx="7561080" cy="3400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y w dniu 7.11.1918 roku w Lublinie z inicjatywy ugrupowań lewicowych: Polskiej Partii Socjalistycznej, Polskiej Partii Socjaldemokratycznej, części Polskiego Stronnictwa Ludowego „Wyzwolen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Na czele TRL stanął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Rząd nie był akceptowany przez pozostałe ugrupowania polityczne, niechętne ideom lewicowym a jego wpływy ograniczały się do terenu Lub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9:24Z</dcterms:created>
  <dc:creator>rena</dc:creator>
  <dc:description/>
  <dc:language>en-US</dc:language>
  <cp:lastModifiedBy>IB</cp:lastModifiedBy>
  <dcterms:modified xsi:type="dcterms:W3CDTF">2013-03-14T17:27:33Z</dcterms:modified>
  <cp:revision>6</cp:revision>
  <dc:subject/>
  <dc:title>PowerPoint Presentation</dc:title>
</cp:coreProperties>
</file>